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787-47B8-45AF-B2F0-9136E130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130-029E-4730-8984-F95F68B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3C1F-7FEC-487C-9950-4BABE443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ABD4C-7200-4BC6-AC7D-B6B3C667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32C1B-153E-4E57-9D88-0FA72702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397AC-7DD9-4DBC-B9AE-EE5F5E4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9186-3D09-40A3-9AA3-DF558C89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1139E-41DD-4B94-8AAD-5642FC30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130C9-DF16-446E-AE23-1B86ABE6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7F70B-DFBE-4C66-A26C-F4373757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F9189-9E16-4EB9-97F4-9B8BF11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F9FDE-B08F-45BB-A3CF-C3CC964F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F50-C741-476A-9BE9-45F8446F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59D29-49D3-402F-8F4C-490CD06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8B205-376F-4FF0-8787-6BE99783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E1977-776D-4F68-843F-57F20F06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5CAC-A153-4212-A3AB-C3DED70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DD17-3016-410E-A90C-6B96AF8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4BF6-D253-4B4F-BFB6-F325845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953F-CAB2-4856-A96B-20160BE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58545-DC9A-4DD8-8989-9BFC584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F4AED-934F-4BDD-9952-40AA7E08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47304-E5E1-4975-B66E-E6C8B863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9AB-C809-41D3-BD5D-F0E11750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F6652-EFA6-43F9-BD66-72FAD48F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AAD3-1E78-4B3B-81F1-6B73A41C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E5AAA-40BD-4CB9-A424-7894A0EA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1164E-4B4A-41BA-8DA5-BC85197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90ED9-5B9B-466A-87AB-32F6429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CDBC7-A79D-4DF9-B13C-D0DF995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8B16-A39F-4ACA-B9C1-51C2D9A9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0AD2-420C-4F50-8B8B-7E09361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34AB2-C1B4-4CB7-93CD-F112328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CBF14-9F19-4B5F-BE80-B5588EF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2986-D01D-4FBF-86E3-C1D52BD7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DAB20-C139-4E9B-8B67-011EC62F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72656-7EF3-4297-A24C-ABF6FBF3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1EAE5-5AB9-49CC-98D3-57448246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04F6B-ACDE-41A8-A071-A49CD84D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38582-F9A7-44A5-A80A-130BD75E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79FD5-B7BD-43D1-9266-61F0FE6A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36418-F8B9-4066-97EF-E097B4B1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8B9BA-8962-4215-9F62-12E0E841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0686D-976B-438A-B146-1CC80D0F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FF3ED-739C-44C5-A2C7-75D93A5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DBFC-3D05-48F8-81B4-33028E7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37452-3CA9-4E5C-9500-EEA251B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E99FE-CE21-4F2B-B149-3C29635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596BA-8651-4ECC-921F-BF20FBC7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91CD6-6AE6-49E6-8876-3C39E36F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065EC-0869-4F84-BA38-5EC4BD86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4028D-115F-4AFD-828D-A1E3BD9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289A5-3756-4EE4-816C-76995935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41029-53E1-409B-B02F-98A11AA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4099F-58FC-4553-B1D4-53AE44F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E6C35-ED6F-4789-ABF5-0BBFBE9C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0F1B-D7CE-4AFB-8DD3-4510E5E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530F8-444E-41E9-A7B5-CF9FB4C9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6C74B-09DD-4A18-B5E0-8B941E1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756FB-9763-4960-9FE5-0F03197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41E18-D5EF-4890-BA8C-4FEF071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45D49-2A8E-47BC-AF11-BB09E17C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BB62A-255B-4C44-8123-3473923F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F9A61-A816-48D6-9120-9347B14B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224D3-2965-4EFA-A0F5-BE2FCF41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AC0A2-EE99-41E3-8FDD-050A5CA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21215-A598-4A45-B3C6-BD531EDF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CEB7-6AC5-4EF1-8BB6-297DD920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6B42A-19C6-49FF-B38D-490C126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B4EB2-E0D7-45A2-A829-80FB0D53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2F769-7C9D-4B61-BBE7-7612D8A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BF4C8-659E-44C1-B3D1-7A25FEC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B10B8-CDA0-47CB-ADC0-36B89AF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E6701-8E81-469F-9154-A224C7A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72830-F138-4734-AEFD-FE1FEDE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87C7E-A7D5-4F92-905E-2AC08939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8245A-AE66-48E2-96B4-728DD9F0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C262F-E629-430A-91E7-5363D775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671E-43B1-4F6F-971C-648ADE9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D58B2-796E-469E-9EC2-BBC7A9F5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54872-5BBF-4A40-919A-F81D94B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64C9C-3010-4183-BA97-7D9476E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26CB1-3905-4DDF-ACEC-D5C477AF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50BA3-2623-4A5B-B179-C98C4A6B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35F6C-24E5-4AF1-89E7-C166FBA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F329A-3708-4D6E-A4A2-5D21982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0F907-40F1-4EE5-8CEA-9D56F48D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AFCD0-2307-43FA-A8CF-30A2E966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AA6F7-DA56-485E-A2C0-FA2B48C0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1A0E-0504-4AB3-A33A-B81F122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50054-B974-4BC2-91A2-B0574E62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FEA28-3B13-40B0-AA6E-D8846400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2D502-CE7F-4820-8A1C-02520F12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13FEB-3727-4E3D-A839-13321D38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BA8E8-CD5C-4ED6-A8CF-CDD24BD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63A76-E289-4132-843E-53E1AB36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CFAA8-77C1-478D-8ED3-67EBA68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6350E-6D69-4D94-B650-55687EE8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40966-C571-45EF-96A4-696320C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7524F-C8D2-4BCA-8E25-58B724E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D01-2513-4006-A35D-FC3BC97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6FA34-841C-4F63-B960-30F7836D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8F2EC-8128-4781-82D9-0E03B230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C1A32-5B23-459E-B738-AF54D07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11FA8-74E2-46C3-8E08-D090CCD8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9C4F7-CE4C-488C-8FDA-E5AC5A7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A3C17-E50F-49BA-89C1-FC42ADF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96661-AEFE-40DB-A5CC-9908CDBE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2D012-9CC6-4E24-BF25-48BED91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BE355-D156-4A3F-BA89-7E37A37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DD1D2-6C6F-4DC0-B7B1-FF7117A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5C2-667C-4CB4-9FEF-F8554C65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4287-72F8-41DD-8B6A-BE1AD7D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64D3E-961A-4D75-B088-0D62484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016BC-48B4-4CD1-82E6-CDC4F5D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5C0E1-2481-4CAD-86C5-8A2C8C09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81E90-AA75-4744-9CF5-51C32516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C135C-DA39-49C5-B01E-3628E78F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EE1A4-5836-4B34-ADC5-8B0D4572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94A37-DDED-44E6-9394-0512CC22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2ADB2-1DD3-4747-A2CC-5E588D1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95DFB-87AB-48B1-B8DC-AC5DAFB3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84991-3DFF-4140-859B-4490145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F136-1909-4647-9E25-4A93F64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5563A-C5C3-4F98-9ADF-BCFB07A8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2BFBF-C45A-4B3D-9830-C5A113F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2840E-0E44-4FF6-A1C2-5DA6469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F605A-AA69-42BE-B0D8-2C358FC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BC3D1-1506-4269-B67D-0216FA88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A9AE1-FB83-412F-BC1D-EDCF8FBF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82D93-CBD8-4700-B74E-B65A0BEC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968ED-A170-480D-B15B-985D6A37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81195-0E6A-42A0-ACEE-9311BE40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F75C4-8708-4E37-895A-DA1E807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EA17-A43B-47CC-8E75-08800EA4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1247B-C017-4589-826D-18919F16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DAEFE-D691-4254-B1F1-FEBAD1D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AD346-6E3E-4843-BEEB-6FEF565F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C843D-FA6D-4E78-8562-B5EFC3D5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4CF76-F2C5-48C2-8D76-418E018F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F345C-229E-4D3A-A2C2-346E653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6E171-4C45-40C4-804E-230C33F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16C6E-00BB-4287-BE84-B7166660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10060-ACFB-4507-97EA-99461718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72036-DAC0-4B5F-BEC8-03D117A7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5B6F-808A-4CD4-88B8-87E3425B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E6085-E581-4818-B6FD-ED348FF1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9E979-D50C-44E5-817C-33D6736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BFC67-EDF7-47AC-9973-6DC51A30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AE008-5F32-47E5-B7DA-694E535E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46919-B5D7-4274-9F30-29C0C46A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438A8-7C0A-4AA5-BE15-63E8CAF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7BEC2-5119-4477-929F-BC8157D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6D802-0FB0-4FE3-A602-9DBB5529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20AFB-0D34-4AB3-9C9B-00095325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D8A32A-1B17-4F8E-9AC7-5A8040F5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E11D-4334-447A-B5E6-B7BC524A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DF784-EA1E-490E-B5E4-FC1F278D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9D800-C73C-47E5-AA39-F3D8B380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C96CD-1B6E-40B7-8E3C-9DFFBBC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6A3D2-AAA8-45FA-9F5A-AE7234A2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1EAC3-2389-4DEC-8A08-6A38CCD9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67333-BE92-46AF-821B-98C767F9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1B1D1-3276-44C5-9058-D4277610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05A65-44D7-4E11-8180-FDCBB8F8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93513-8E51-416B-9152-2859B97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1CCB2E-1687-4139-B3D0-1A6273E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DAA8-AE8E-4524-8CA2-261B72D2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69EA9-CCF7-4BEC-A3E1-6FB620D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56393-AEC5-4FCD-9904-BEAC1D23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CB7CB-8EDC-4DFB-9658-6058F155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66DA-67BA-4365-BE77-2059F1D6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4B95-DC66-4D66-8D02-78F4B43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8EB1-8D61-4B28-AE64-2BF9ED47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A6EE-E628-4903-88F8-9B081A3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FAE-861A-42A2-A8B6-EDDD493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DCC5-EA7D-407A-99B0-4023A7B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774C-BDB7-4B68-9ADC-2BF0B13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86EB-AE71-47E7-A4C7-B7252B3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D215-960F-4028-B7D7-0E95C55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4451-D482-4FB4-A400-1ADED1D9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8AF2-C6EB-4026-BE18-8D7B9881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BD08-FFCD-4E0C-941A-C742F367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D72C-E9F0-4749-B212-78FFCB32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58A5-D20D-4856-B10B-E2922E02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AB1D-88A0-46C2-9CBC-5ECEB6C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6DA-1149-43F4-B602-CCF8463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1FEC-D403-44F6-8216-D26C0514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67BE-F08E-4425-9929-346EE5CE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E835-CB4E-4C8B-B877-6AD1A6A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3D86-0998-45E7-8EF5-8D3F04B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EBE1-3B7A-4F5E-B25E-25329E0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CB89-B684-49CB-93CA-9544891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662F-B024-40A7-B152-42A74BB4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7D61A-A2CB-4302-B33A-95AF5414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C027-04E1-441B-A83D-2ED8D472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19FA-FA52-4142-BBDD-DA29F246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312-C073-40C9-8125-DEDD14F5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8B912-7E4F-495E-BDBA-5CFCF60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16F0-5781-483D-A072-B469E0A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84E5-94B0-416A-9259-9E64A5A0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A267-FC9C-43A8-8F75-CA19DF8F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9DF2-5A22-4DBB-9CFE-427E34EA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2FA1F-9789-4EFD-A67C-D331E8F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32C9-99BF-4C73-AB24-00A4AC7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B2E3-19CE-4CB1-AB49-F1434BE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4890-84DA-4F37-9279-A7BC9C0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F88C-BE7C-41AB-9F38-187BA139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A22-8560-483A-A01D-5856E7DD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AFEF0-FAE1-48A0-ACE7-6BFE841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728D-29DB-4005-B580-30CB88E9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7766-4F84-4F2F-B017-5096090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5A54-9408-4C95-BFD0-EF2ED8D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1B1F-5156-443D-ACA9-81C60FC8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CE09-B096-414D-8F1B-50C93F83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3E30A-A620-4CE4-B988-961FBFF3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C971-DBF1-45A5-B390-85A9021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AB0A-67EB-45A3-97DB-AAEC36E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8D83-3057-4D04-A6DC-AE986D4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F71-458E-4A86-B8BC-D38AE54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D151-D2FF-4146-859B-5A0D17E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338D-B54A-43F9-9BB7-571DCA0D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6652-179E-4469-93C4-C6AFACAF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3A28-BE86-4939-A42F-EC70477C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9BA9-D384-4B3D-B22D-7BE22FB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756F-B6CD-42F4-91B7-9C4D50A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3D86E-E3D8-44FE-A6B8-B5EA19A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9C1E-638F-432D-B5FF-854D993D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0BDA8-BBBF-477F-B37D-2FBD48EA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0D65F-92A6-4008-B303-7FC29AA3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DD6-8A53-4FEA-9B81-14E42AA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A7E63-51DC-4003-8B9D-550A84A9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A5B6A-7A48-4BAB-B1E3-AE28FC0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5F6A-358A-41E9-AB3C-9D8D19CA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90C5-EFE2-4C5D-94D9-BBFAA8DB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2CA66-AE16-4ADA-94DB-782DFE90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A57B6-E525-4961-882A-27901DAE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2C6D1-F394-40CE-92CC-5EFD12C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ABB17-86B5-45F2-B523-6937DF01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3988-3D5C-4663-9CFE-193DE8E3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CFFB-A760-403F-ABEE-EB43306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5D2-F261-434E-B485-F5A339A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F47AE-729B-4309-A7CC-59061FB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7883-AA7C-4725-92E3-7AFF1FA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8FDD1-C4A8-4713-82EF-FA13F6B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84DD-419B-4B7C-AE87-9786CCE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F68BF-6C7D-4C6C-8785-5AE909A9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B7EC-27BE-445A-8EC8-C0BBCDA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8857D-9949-4162-8596-04B34E0B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FA2A-DB6C-4117-847A-5AD90CF9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91B97-4D14-4456-8F7E-D781B303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BAB48-1701-4688-81B3-371FA7EE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CE45-32DE-4351-8AB1-61BAA5F761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137-678B-48B0-A214-5DCDD3B34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4583-63B6-49D7-9D36-D0F848D64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2946-F6EA-4634-A476-C7B7126B3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6B0-ECF5-4969-BFC5-671054DEB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8CAB-4DF0-4B27-A9C6-3758432C0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68D5-276A-4970-B451-2D7577982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E6B2-D62F-46DE-8497-D5C524509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A11E-0668-4503-B0B4-B0C3E006FE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782-548D-40DD-A079-04C9BA787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1CE-ACA1-4B8C-8A54-5A060ADC83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E0C5-104B-45F1-9AB4-4D5ECE67C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50F3-1D05-4356-AA6D-FB5F681440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8398-770D-44D3-8652-37C77F73B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9533-5CAA-41E5-8DF7-E7A79EF8FD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A9F-77B5-49F3-A85F-4B2A1C47F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71E-C717-4681-B73F-269A3E1DB1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230-1470-4757-8348-F51F38156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8DD7-27BE-4BAE-9D76-9366815BE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E0E9-1F46-487E-9E02-BA2188951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F65-0C33-4FF6-89B0-12FC7B166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D5DC-BF63-4D8E-987A-8B6F1E584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CD08-EDF0-434C-99FA-EB647E9AD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470-47D9-4662-B819-8A7DA8867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C8CF-13B0-4E77-AB86-7568FDCBB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9842-08D1-48F1-92D9-8C314945B3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489-90AE-4BCB-B228-253957F16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0D11-BED0-437F-BD13-94DF5BC43D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0AB9-36A9-434A-AFDB-08E791F48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C23-7767-470D-9E1A-385CBE6FA7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8E10-EBDE-40AF-89E8-D3C9AB5D2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6C05-46B9-4D4B-BACB-67B4F0D54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28B-45F3-4188-A4CF-3A628D6935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F703-F947-402C-A944-5BB3D9D47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D56-2F2D-4533-9528-0F0E5A05A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59C-D447-4226-81D6-A02A4F8AB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444-F455-4691-95A7-451879230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D29A-A767-4CCE-A578-CC4744A9E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ADB3-7057-4042-9847-77680A0E1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B9E4-AF0B-4D1D-AC1E-8AC42D775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14400" y="3067200"/>
            <a:ext cx="73152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843120"/>
            <a:ext cx="8458200" cy="517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1079280" cy="506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3357720"/>
            <a:ext cx="1079280" cy="506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471920" y="432108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51560" y="432108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29080" y="528624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308720" y="5286240"/>
            <a:ext cx="1079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11280" y="217440"/>
            <a:ext cx="7056360" cy="6596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042920" y="1571760"/>
            <a:ext cx="2808360" cy="50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900000" y="2219400"/>
            <a:ext cx="2808360" cy="506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8083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280836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280836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55640" y="6035760"/>
            <a:ext cx="2808360" cy="50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6531120" y="2198520"/>
            <a:ext cx="704880" cy="354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6673680" y="2881440"/>
            <a:ext cx="433440" cy="353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5940360" y="3227400"/>
            <a:ext cx="433440" cy="353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1"/>
          <a:stretch/>
        </p:blipFill>
        <p:spPr>
          <a:xfrm>
            <a:off x="6588000" y="4292640"/>
            <a:ext cx="835200" cy="3538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2"/>
          <a:stretch/>
        </p:blipFill>
        <p:spPr>
          <a:xfrm>
            <a:off x="5708520" y="4984920"/>
            <a:ext cx="8352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76801" descr=""/>
          <p:cNvPicPr/>
          <p:nvPr/>
        </p:nvPicPr>
        <p:blipFill>
          <a:blip r:embed="rId1"/>
          <a:stretch/>
        </p:blipFill>
        <p:spPr>
          <a:xfrm>
            <a:off x="2185920" y="2347920"/>
            <a:ext cx="4772160" cy="2162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050920" y="3139920"/>
            <a:ext cx="352908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529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233280" y="771480"/>
            <a:ext cx="8677440" cy="5315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67200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672000" cy="506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11280" y="4797360"/>
            <a:ext cx="367164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55640" y="5603760"/>
            <a:ext cx="3672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7352" descr=""/>
          <p:cNvPicPr/>
          <p:nvPr/>
        </p:nvPicPr>
        <p:blipFill>
          <a:blip r:embed="rId1"/>
          <a:stretch/>
        </p:blipFill>
        <p:spPr>
          <a:xfrm>
            <a:off x="676440" y="1552680"/>
            <a:ext cx="7791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1795320" y="1467000"/>
            <a:ext cx="5553360" cy="3924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050920" y="2319480"/>
            <a:ext cx="5400720" cy="506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124000" y="3112920"/>
            <a:ext cx="540072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2124000" y="3860640"/>
            <a:ext cx="540072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2195640" y="4653000"/>
            <a:ext cx="5400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871560" y="785880"/>
            <a:ext cx="7400880" cy="5286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258920" y="1571760"/>
            <a:ext cx="6265800" cy="506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258920" y="2349360"/>
            <a:ext cx="626580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1187280" y="3083040"/>
            <a:ext cx="6266160" cy="506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1042920" y="3933720"/>
            <a:ext cx="626580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1116000" y="4667400"/>
            <a:ext cx="6265800" cy="506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971640" y="5530680"/>
            <a:ext cx="6265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4276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634160" cy="65898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1116000" y="4135320"/>
            <a:ext cx="388764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3888000" cy="506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3888000" cy="506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84360" y="6222960"/>
            <a:ext cx="6551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9:0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